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1EE-8E76-432A-9654-5750F68F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C0C-CD0D-45EF-8E57-C2D1727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3AA-40A7-4E66-BA7C-89E13423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63D-DD60-486B-A4C7-C1941338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0FD-0981-479B-B2E6-C68C1BE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C54-B40C-42D0-8242-645F28F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970-F7B6-4E23-A783-57213A01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A8F-DD2B-4E10-A26A-7889F9A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838-8C13-41D5-A8B0-E43BEBC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58F-8484-4162-8706-46127C9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13A-7B34-4167-84C2-CE31BB2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ECD-478E-4667-8F0D-77F8A03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624816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200" y="62481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2481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F50D-0524-4A79-8C52-F9C90732C3B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WordArt 4"/>
          <p:cNvSpPr txBox="1"/>
          <p:nvPr/>
        </p:nvSpPr>
        <p:spPr>
          <a:xfrm>
            <a:off x="2868480" y="1465200"/>
            <a:ext cx="51832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精神的三间小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0" name="WordArt 5"/>
          <p:cNvSpPr txBox="1"/>
          <p:nvPr/>
        </p:nvSpPr>
        <p:spPr>
          <a:xfrm>
            <a:off x="6872400" y="37209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淑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87440" y="251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质疑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79320" y="1466280"/>
            <a:ext cx="110602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（二）欣赏构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析文章结构，体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中求小，小中见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精妙构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讨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精神的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足矣，房屋的空间，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足矣。可作者在文章开头却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有一颗大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的心灵，应该比大地、海洋和天空都更为博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这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矛盾吗？而文章结尾又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精神小屋建筑得美观结实就能矗立我们的精神大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又该如何理解呢？谈一谈你的看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28480" y="1563840"/>
            <a:ext cx="1098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是一篇议论、描写、抒情于一体的说理性散文。文章以三间小屋为载体，阐述了精神追求的内涵及其意义，激励人们关注自我心灵，提升精神境界，使人格得到升华，表现了关注个性、关注自我、关注人的精神生活的思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28480" y="24912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119240" y="1489680"/>
            <a:ext cx="102582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抄写你最喜欢的语句或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合自己的阅读感悟，试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的精神小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话题，写一篇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左右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04640" y="473040"/>
            <a:ext cx="43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35120" y="784080"/>
            <a:ext cx="106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毕淑敏，女，国内一级作家，内科主治医师。祖籍山东文登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5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生于新疆伊宁，长在北京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岁赴西藏高原阿里地区当兵，在海拔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米的高原部队服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。历任卫生员，军医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转业回北京，在北师大获文学硕士学位。从事医学工作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后，开始专业写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发表处女作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昆仑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共发表作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万字。著有长篇小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红处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玲珑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拯救乳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中短篇小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昆仑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女人之约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预约死亡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散文集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婚姻鞋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素面朝天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提醒幸福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保持惊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；著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毕淑敏文集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四卷。曾获庄重文文学奖、小说月报百花奖、当代文学奖、北京文学奖、昆仑文学奖、解放军文艺奖、青年文学奖等各种文学奖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19040" y="1904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81160" y="210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字词正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08240" y="21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0200" y="1108440"/>
            <a:ext cx="12088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   ）    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 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   ）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袤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余   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怀       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自惭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俯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1160" y="210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字词正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208240" y="21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60200" y="1108440"/>
            <a:ext cx="12088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 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huī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袤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zh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余   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í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īn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怀       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chě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自惭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h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zē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 俯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楷体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）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2205000" y="838080"/>
            <a:ext cx="931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指因自己容貌举止不如别人而感到羞愧。后泛指因不如别人而感到惭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道怎么办才好，形容遭受困窘或处境为难时心神慌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林林，众多的样子；总总，众多而杂乱的样子。形容杂乱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低下头来捡取，到处都是。形容多而易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斑鸠占据喜鹊的巢。比喻强者欺凌弱者，获得现成的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树代替桃树僵死。比喻兄弟相爱相助，患难与共。后用以指互相顶替或代人受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容身体非常消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225"/>
          <p:cNvSpPr/>
          <p:nvPr/>
        </p:nvSpPr>
        <p:spPr>
          <a:xfrm>
            <a:off x="449280" y="155520"/>
            <a:ext cx="2033640" cy="515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195120" y="836640"/>
            <a:ext cx="211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惭形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知所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林林总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俯拾即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鸠占鹊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李代桃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形销骨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92240" y="1248840"/>
            <a:ext cx="1181412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部分（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-6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引出话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何布置我们的心灵空间，即建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精神小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二部分（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-1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分析人们的精神世界里应该建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间小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 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7-8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一间精神小屋，即盛放着爱和恨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 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9-13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二间精神小屋，即盛放着事业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层（</a:t>
            </a:r>
            <a:r>
              <a:rPr b="1" lang="en-US" sz="2400" spc="-1" strike="noStrike">
                <a:solidFill>
                  <a:srgbClr val="990000"/>
                </a:solidFill>
                <a:latin typeface="隶书"/>
                <a:ea typeface="隶书"/>
              </a:rPr>
              <a:t>14-17</a:t>
            </a: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）：分析如何建立第三间精神小屋，即安放我们自身的小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三部分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8-19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：指出把精神的三间小屋建筑得美观结实的条件，并希望在此基 础上把小屋扩建成精神大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92240" y="25596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初读课文，理清思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31920" y="338760"/>
            <a:ext cx="57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再读课文，理解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38120" y="1659960"/>
            <a:ext cx="1131588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然段写的是什么？与后文写的精神的三间小屋有什么关联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二）作者认为在人们的精神世界里应该建立哪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精神小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？ 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三）作者认为应该修建三间精神小屋的原因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98440" y="2214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赏析三间精神小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98440" y="928440"/>
            <a:ext cx="101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一）赏析第一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间精神小屋是什么样的？作者是怎样写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一间小屋中有爱也有恨，作者希望我们如何处理它们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44680" y="22856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二）赏析第二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二间小屋盛放我们的事业，作者是怎样描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何才能让第二间精神小屋坚固优雅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06360" y="3766320"/>
            <a:ext cx="1157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（三）赏析第三间精神小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第三间小屋安放我们自身，作者是怎样描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什么作者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我们的小屋里，住着所有我们认识的人，唯独没有我们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果我们的精神小屋不住着自己，会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你认为在第三间精神小屋中应该怎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安放我们自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36600" y="251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质疑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44480" y="1056600"/>
            <a:ext cx="104299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（一）理清逻辑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人认为三间小屋之间是并列平行关系，你同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你的理解，谈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精神的三间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内在联系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1T00:48:00Z</dcterms:created>
  <dc:creator> </dc:creator>
  <dc:description/>
  <dc:language>en-US</dc:language>
  <cp:lastModifiedBy>微软用户</cp:lastModifiedBy>
  <dcterms:modified xsi:type="dcterms:W3CDTF">2018-10-29T02:43:17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